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isa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onozyt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n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800" y="549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on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3400" y="549360"/>
            <a:ext cx="72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entralisation des Monozytenpools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3"/>
            <a:endCxn id="1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8440" y="54936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5" idx="3"/>
            <a:endCxn id="10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oplasie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ononukle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Rei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1070280" y="5493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nkontrollierte 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oplasie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ononukleären Rei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9560" y="549360"/>
            <a:ext cx="72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nkontrollierte Produk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Neoplasie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ononukleären Rei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onozytenleuk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onozytenleuk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yelomonozyt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äm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85680" y="5493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Zellunte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urch 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tra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rege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2" idx="3"/>
            <a:endCxn id="12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7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Zellunte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3160" y="549360"/>
            <a:ext cx="62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durch Zellunte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mornek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um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rege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3160" y="549360"/>
            <a:ext cx="61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durch 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ntrazellulären Errege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ykobakter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Zentralisa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onozyt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3"/>
            <a:endCxn id="1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3" name=""/>
          <p:cNvCxnSpPr>
            <a:stCxn id="139" idx="3"/>
            <a:endCxn id="14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880920" y="54936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entralisation des Monozyt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schleun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schleun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3400" y="54936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on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entralisation des Monozytenpools &gt; Beschleun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1:59:44Z</dcterms:modified>
  <cp:revision>333</cp:revision>
  <dc:subject/>
  <dc:title>Vorstellung einer Neuheit</dc:title>
</cp:coreProperties>
</file>